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7E2-87D5-4FF4-88B3-51E4CF0E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2E7-6B55-4305-A630-2932542B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409-7309-4276-BFBA-4819E533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23B-9D1A-4F81-8362-42991C5D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0DA-9CF9-430A-A1D5-3EB7FD6D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166-7CB3-4DB3-A5AE-99B60405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2E4-3BFC-4775-ACF3-2E35D1FA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778-E504-4448-B33C-DD8D2912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109-C163-4CA9-9AFE-BFA8AE65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3BD-137B-4D26-8BC4-16845085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B05-0099-476A-B31A-25B986F3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17C-EF0B-4299-89B0-DAF1A1EC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ABFF-F127-4B5C-9C32-087F53347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ble2" descr=""/>
          <p:cNvPicPr/>
          <p:nvPr/>
        </p:nvPicPr>
        <p:blipFill>
          <a:blip r:embed="rId1"/>
          <a:stretch/>
        </p:blipFill>
        <p:spPr>
          <a:xfrm>
            <a:off x="914400" y="17640"/>
            <a:ext cx="7315200" cy="6821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8975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كلمتك مصباح لخطا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ونور لسبيل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من كان من الله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سمع كلام الل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إذا ثبتم بكلامي صرتم حقا تلاميذ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 السماء و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تزولان وكلامي لا يزول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31:35Z</dcterms:modified>
  <cp:revision>4</cp:revision>
  <dc:subject/>
  <dc:title>PowerPoint Presentation</dc:title>
</cp:coreProperties>
</file>